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B787-A371-417A-B5B5-37F8B6D8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96DE-380A-4A45-A4BE-B9A8D872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2FA4-D8DA-461C-9B79-3E6653F3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776D-F30A-4673-9783-B489582CE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26C1-CBDC-465C-9B18-BA29607C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C52-BD9D-48C7-B78C-3FD47165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6020-0DF3-4BE0-AF3F-ADC0E5C2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1D41-EBC6-4F73-AE1C-31D6361B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ACB-35FD-4A40-9ECD-4649A89F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CEF-E7B1-49EC-B4F2-6E3E7CE8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E0FA-5425-4D48-86D5-699FA346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82B8-2D36-4D32-982F-8A689518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768B-BB43-4600-85FB-3A35425EA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29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igi"/>
              </a:rPr>
              <a:t>How To Make Rice-Krispie Tre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Minya Nouvelle"/>
              </a:rPr>
              <a:t>Step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Minya Nouvelle"/>
              </a:rPr>
              <a:t>Gather your ingredi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ya Nouvelle"/>
              </a:rPr>
              <a:t>3 tablespoons of butter or marga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ya Nouvelle"/>
              </a:rPr>
              <a:t>1 package (10 oz., about 40) of regular marshmal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ya Nouvelle"/>
              </a:rPr>
              <a:t>- OR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ya Nouvelle"/>
              </a:rPr>
              <a:t>4 cups of miniature marshmallow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inya Nouvel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inya Nouvelle"/>
              </a:rPr>
              <a:t>6 cups of Rice Krisp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lt the butter in a saucepan over low h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butter is melted, slowly add the marshmal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r the marshmallows until they are completely mel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dually add the Rice Krispies to the marshmall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r in until completely bl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ead mixture into sprayed cooking p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to c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into 2-inch squares and ser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2:49:46Z</dcterms:created>
  <dc:creator>tempprofile</dc:creator>
  <dc:description/>
  <dc:language>en-US</dc:language>
  <cp:lastModifiedBy>tempprofile</cp:lastModifiedBy>
  <dcterms:modified xsi:type="dcterms:W3CDTF">2010-05-04T13:18:47Z</dcterms:modified>
  <cp:revision>2</cp:revision>
  <dc:subject/>
  <dc:title>How To Make Rice-Krispie Treats</dc:title>
</cp:coreProperties>
</file>